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CBF6-991D-478B-8029-42005207CB3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ыполнена в рамках проекта «Повышение квалификации различных категорий работников образования и формирование у них базовой педагогической ИКТ-компетентности» по программе «Информационные технологии в деятельности учителя-предметни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C4D9B-356E-4632-87F5-B455444B38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речения великих люд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он писал:»…тело нельзя лечить без души.Ибо  от души идёт всё:как доброе,так и злое,как на тело,так и на всего человека…А душа должна лечиться особыми целебными разговорами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т говорил:»Подобно тому, как нельзя лечить глаз, не леча голову,а голову-не леча тела, так нельзя лечить тело,не леча душ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0E72-B0DE-479C-BC3A-B5E4420213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соматическая болезн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соматическая болезнь-это психологическая надстройка в душе человека, попытка найти выход из безвыходной ситуации,последний шанс разрешить иначе не разрешимую пробл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ловек болеет для того, чтобы получить те или иные преимущества в жизни,которые он может получить только благодаря какому-то не д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значается огромное количество химических лекарственных средств, а выздоровление не наступает, так как не решены какие-то психологические проблемы в жизни человека,которые и вызывают перенапряжение в организ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соматическая болезнь-это»будильник»,сигнал к тому,что конфликт требует разрешения.Многие пациенты признавали,что благодаря болезни они смогли обратить внимание на свои истинные потребности.Заболевание дало им возможность переступить определённые ограничительные социальные нормы,в которых они воспитывались, и начать развиваться и расти как личность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E737-8AD3-4DB1-A867-5BAB838AA4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соматические заболе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венная болезнь желудка и двенадцатиперстной кишки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неспецифический язвенный колит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бронхиальная астма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тиреотоксикоз (Базедова болезнь)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нейродерми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гипертоническая болезнь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ревматоидный артр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359F-9150-4EC7-88AD-0C648A4AC9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у выполнила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икишина Елена Викторовна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тель ОГОУ»Искитимского медицинского училища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7D2A-3177-4578-AA56-B3A537C5C8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ополагающий вопро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опсихосоматика здоровья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опросы учебной ча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яющие здоровья: телесная, психическая, социальная.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ебное занят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ать анализ составляющие здоровья: телесная, психическая, социальная.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астники проекта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уденты 4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505A-C47F-411C-8E2C-840AEC0183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ить основные задачи, методы, структуру медицинской психоло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ть  влияние хронических соматических заболеваний  на психику человека, личность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A97A-4FA5-479F-B303-63369798C1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едицинская психолог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ая психология является одним из ответвлений общей психологии науки, изучающей нормальные психические процессы и личностные свойства человек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определения:»новая область знаний,являющаяся соединением психологии и медицин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6B20-3CA6-44C1-9ED1-97531576D7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блемы и задачи медицинской психологии входит исследование личности пациента в болезни как соматической так и психической; изучение психических факторов, влияющих на развитие болезней, их профилактику и лечение; изучение влияния тех или иных болезней на психику; изучение отношений больного человека с окружающей его микросред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C71B-1BF4-4620-B1A5-D37E003923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медицинской психоло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изменения отдельных психических функций при соматических ипсихических заболева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следование типов личности пациентов, определяющих реакцию пациента на боле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психологии медработников, их взаимоотношений(врача,медсестры,младшего медперсонал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психологии лечебного взаимодействия, в том числе психологии общения с пациентом; медицинской этики и деонтоло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соматопсихических взаимоотношений и психосоматических состояний как существенных при происхождении,течении и тттерапии боле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следование психологического профиля больных при различных заболева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»девиантного»(отклоняющегося) поведения, во многом определяющего реакции пациента на окру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следование возрастной  клинической психоло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психологии семей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коррекция, психотерапия,психологическое консульт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9339-396F-45A6-82C4-76A9769AC0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исследования в медицинской психоло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ническое интервью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иментально-психологические методы исследования(психологический эксперимен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оценки эффективности психокоррекционного и психотерапевтического воз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9690-54C9-4D30-A51A-EC5C8F1382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циопсихосоматика здоровь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 «психосоматика» предложен в 1818г.врачом Иоганом Августом Хейнро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коби в 1822г. Ввёл термин «соматопсихический»,подчеркивая приоритет телесного в возникновении некоторых заболе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соматика-это направление медицинской психологии,которое занимается изучением влияния психических факторов на возникновение и течение соматических заболе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A9BD-5E81-422D-8D18-BF4A864358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FEF2-6EF5-477B-877A-405168A75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873E-316E-4BD3-9A63-ADB988A2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D22B-6634-459D-84C3-9E925AF6B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6535-3E96-43A6-8C24-F4497DE1F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9DB1-CC62-4C05-B54B-BD3B2B4AF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0E7B-5FC8-443C-B7E7-87280B5C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3680-587B-4D6E-B294-E3E0BE17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6D66-9F38-48EB-AA96-E981C449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F72C-14E6-48D5-95B9-5A34A433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1FEAF-6A8E-4A12-A3EC-4D81CEC2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55FC-F13D-4385-B5D1-3F91590F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0670-58F4-4882-8110-CAB10796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E134-C2BD-4B34-848F-E380DF7A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0C2B-607C-41D8-97F1-7E7F0D6E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488B-1390-4ECA-BB3F-BC187F89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11EC-D04C-423D-B7D9-F789128CB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2682-D1E9-4A2F-AB29-F7E6A5349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6DD6-7E49-49EB-9922-1C9A5A1A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9B7E-A71C-4BDD-A6E0-20106172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C0CC-B51B-4A8B-AFE8-38C57580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738D-D1FD-4BB1-A6C6-6DC4B637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F633-FC66-423B-93DF-031A044B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0939-AEA3-409D-9639-DAE342BE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0782-001D-4105-9850-3C41D83B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B9A7-121C-4F5B-84F6-EF3488A6482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157B-80E3-40D7-B4AE-55C85080FA1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82160"/>
            <a:ext cx="7920000" cy="62895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бота выполнена в рамках проекта «Повышение квалификации различных категорий работников образования и формирование у них базовой педагогической ИКТ-компетентности» по программе «Информационные технологии в деятельности учителя-предметника»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Изречения великих людей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тон писал:»…тело нельзя лечить без души.Ибо  от души идёт всё:как доброе,так и злое,как на тело,так и на всего человека…А душа должна лечиться особыми целебными разговорами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крат говорил:»Подобно тому, как нельзя лечить глаз, не леча голову,а голову-не леча тела, так нельзя лечить тело,не леча душу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сихосоматическая болезнь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195280" y="1412640"/>
            <a:ext cx="6715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сихосоматическая болезнь-это психологическая надстройка в душе человека, попытка найти выход из безвыходной ситуации,последний шанс разрешить иначе не разрешимую пробл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ловек болеет для того, чтобы получить те или иные преимущества в жизни,которые он может получить только благодаря какому-то не ду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начается огромное количество химических лекарственных средств, а выздоровление не наступает, так как не решены какие-то психологические проблемы в жизни человека,которые и вызывают перенапряжение в организ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сихосоматическая болезнь-это»будильник»,сигнал к тому,что конфликт требует разрешения.Многие пациенты признавали,что благодаря болезни они смогли обратить внимание на свои истинные потребности.Заболевание дало им возможность переступить определённые ограничительные социальные нормы,в которых они воспитывались, и начать развиваться и расти как личнос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1964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сихосоматические заболевания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411280" y="1628640"/>
            <a:ext cx="6337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венная болезнь желудка и двенадцатиперстной кишки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неспецифический язвенный колит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бронхиальная астма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тиреотоксикоз (Базедова болезнь)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нейродерми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гипертоническая болезнь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ревматоидный артр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705720" cy="550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Работу выполнила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Никишина Елена Викторовна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преподаватель ОГОУ»Искитимского медицинского училища»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7920" y="228600"/>
            <a:ext cx="6381720" cy="615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c0039"/>
                </a:solidFill>
                <a:uFillTx/>
                <a:latin typeface="Arial"/>
              </a:rPr>
              <a:t>Основополагающий вопрос</a:t>
            </a: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оциопсихосоматика здоровья</a:t>
            </a:r>
            <a:br>
              <a:rPr sz="3200"/>
            </a:br>
            <a:r>
              <a:rPr b="0" lang="ru-RU" sz="3200" spc="-1" strike="noStrike" u="sng">
                <a:solidFill>
                  <a:srgbClr val="8c0039"/>
                </a:solidFill>
                <a:uFillTx/>
                <a:latin typeface="Arial"/>
              </a:rPr>
              <a:t>Вопросы учебной части</a:t>
            </a: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оставляющие здоровья: телесная, психическая, социальная.</a:t>
            </a:r>
            <a:br>
              <a:rPr sz="3200"/>
            </a:br>
            <a:r>
              <a:rPr b="0" lang="ru-RU" sz="3200" spc="-1" strike="noStrike" u="sng">
                <a:solidFill>
                  <a:srgbClr val="8c0039"/>
                </a:solidFill>
                <a:uFillTx/>
                <a:latin typeface="Arial"/>
              </a:rPr>
              <a:t>Учебное занятие</a:t>
            </a: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делать анализ составляющие здоровья: телесная, психическая, социальная.</a:t>
            </a:r>
            <a:br>
              <a:rPr sz="3200"/>
            </a:br>
            <a:r>
              <a:rPr b="0" lang="ru-RU" sz="3200" spc="-1" strike="noStrike" u="sng">
                <a:solidFill>
                  <a:srgbClr val="8c0039"/>
                </a:solidFill>
                <a:uFillTx/>
                <a:latin typeface="Arial"/>
              </a:rPr>
              <a:t>Участники проекта:</a:t>
            </a: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туденты 4 курса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Цели урока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репить основные задачи, методы, структуру медицинской психоло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крыть  влияние хронических соматических заболеваний  на психику человека, личность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26920" y="620280"/>
            <a:ext cx="63104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Медицинская психология.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ицинская психология является одним из ответвлений общей психологии науки, изучающей нормальные психические процессы и личностные свойства человек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ие определения:»новая область знаний,являющаяся соединением психологии и медицин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195280" y="620280"/>
            <a:ext cx="67690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роблемы и задачи медицинской психологии входит исследование личности пациента в болезни как соматической так и психической; изучение психических факторов, влияющих на развитие болезней, их профилактику и лечение; изучение влияния тех или иных болезней на психику; изучение отношений больного человека с окружающей его микросре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Задачи медицинской психологии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340000" y="1197000"/>
            <a:ext cx="680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 изменения отдельных психических функций при соматических ипсихических заболева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следование типов личности пациентов, определяющих реакцию пациента на болез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 психологии медработников, их взаимоотношений(врача,медсестры,младшего медперсонал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 психологии лечебного взаимодействия, в том числе психологии общения с пациентом; медицинской этики и деонтоло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 соматопсихических взаимоотношений и психосоматических состояний как существенных при происхождении,течении и тттерапии боле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следование психологического профиля больных при различных заболева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»девиантного»(отклоняющегося) поведения, во многом определяющего реакции пациента на окру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следование возрастной  клинической психоло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 психологии семейных отно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сихокоррекция, психотерапия,психологическое консультиро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Методы исследования в медицинской психологии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иническое интервьюир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ериментально-психологические методы исследования(психологический эксперимент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ы оценки эффективности психокоррекционного и психотерапевтического воз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оциопсихосоматика здоровья.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ин  «психосоматика» предложен в 1818г.врачом Иоганом Августом Хейнро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коби в 1822г. Ввёл термин «соматопсихический»,подчеркивая приоритет телесного в возникновении некоторых заболе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ихосоматика-это направление медицинской психологии,которое занимается изучением влияния психических факторов на возникновение и течение соматических заболе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7:27:55Z</dcterms:created>
  <dc:creator>С23</dc:creator>
  <dc:description/>
  <dc:language>en-US</dc:language>
  <cp:lastModifiedBy>LEGION</cp:lastModifiedBy>
  <dcterms:modified xsi:type="dcterms:W3CDTF">2014-11-06T13:24:42Z</dcterms:modified>
  <cp:revision>6</cp:revision>
  <dc:subject/>
  <dc:title>78с</dc:title>
</cp:coreProperties>
</file>